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7D57-9CBC-4FBD-9D2F-1D8CD92C9E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85EC-465E-41B2-8E89-2E0D7766176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8AE-16B6-4522-9D48-C8D3F385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ABE-C1CD-4E3B-80AB-D8235523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DA5-FD19-4A0E-966D-DBB96A03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EE0-0EA4-4283-BED7-148870E9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538-B37F-4E90-92BE-0531E1DD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A6A-37B5-42EE-8725-99636745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D31-22EB-4B04-9694-6A004BEF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957-63B5-4DF4-8A9F-FB79B12F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F06-04CB-4BE2-8F61-4B294927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636-40DE-48A5-AAA2-E94AD84B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786-6BF6-4ADD-BC62-F9563400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6F6-1B9C-42D8-892C-9EB56E12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BA7F-AF2E-48F4-A565-B237B42C7AF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2"/>
          <p:cNvSpPr/>
          <p:nvPr/>
        </p:nvSpPr>
        <p:spPr>
          <a:xfrm>
            <a:off x="692280" y="5762520"/>
            <a:ext cx="77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: Un percorso di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media-education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per una cittadinanza in rete sostenibile e consape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2"/>
          <p:cNvSpPr/>
          <p:nvPr/>
        </p:nvSpPr>
        <p:spPr>
          <a:xfrm>
            <a:off x="2627280" y="3357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ENTUALE IMMAGINE RAPPRESEN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4"/>
          <p:cNvSpPr/>
          <p:nvPr/>
        </p:nvSpPr>
        <p:spPr>
          <a:xfrm>
            <a:off x="611280" y="62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O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5"/>
          <p:cNvSpPr/>
          <p:nvPr/>
        </p:nvSpPr>
        <p:spPr>
          <a:xfrm>
            <a:off x="6732720" y="62064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Festival nazionale S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Rimini 22-24.04.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6"/>
          <p:cNvSpPr/>
          <p:nvPr/>
        </p:nvSpPr>
        <p:spPr>
          <a:xfrm>
            <a:off x="2771640" y="62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C812-7709-47B2-A255-5EB444CC67B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5"/>
          <p:cNvSpPr/>
          <p:nvPr/>
        </p:nvSpPr>
        <p:spPr>
          <a:xfrm>
            <a:off x="755640" y="376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1. Motivazione iniz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275B-BAFA-4B6B-8918-3D739BC4D51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5"/>
          <p:cNvSpPr/>
          <p:nvPr/>
        </p:nvSpPr>
        <p:spPr>
          <a:xfrm>
            <a:off x="179280" y="162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2. Identificazione del problema e obiettivi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A quali bisogni del territorio rispon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BE3-9D8C-4B41-8E2F-AED4568BC97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5"/>
          <p:cNvSpPr/>
          <p:nvPr/>
        </p:nvSpPr>
        <p:spPr>
          <a:xfrm>
            <a:off x="900000" y="206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3. Strategia adott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ome raggiungere l’obiettivo/gli obiettiv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69BD-C138-48B4-A3E6-9AA55107667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5"/>
          <p:cNvSpPr/>
          <p:nvPr/>
        </p:nvSpPr>
        <p:spPr>
          <a:xfrm>
            <a:off x="487440" y="1033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4. Fasi di rea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Timeline: cosa, chi, quando?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457200" y="979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14FC-551E-4E9F-B719-74B2A5081C3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5"/>
          <p:cNvSpPr/>
          <p:nvPr/>
        </p:nvSpPr>
        <p:spPr>
          <a:xfrm>
            <a:off x="684360" y="339840"/>
            <a:ext cx="793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5. Traguardi di compet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competenze disciplinari svilup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E07C-8698-4054-971E-40104A83C20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2"/>
          <p:cNvSpPr/>
          <p:nvPr/>
        </p:nvSpPr>
        <p:spPr>
          <a:xfrm>
            <a:off x="93492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6. Risultati raggiu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Benefici sociali/risposte ai bisogni di parten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EB0F-3FB5-422C-BEC6-459356630D8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5"/>
          <p:cNvSpPr/>
          <p:nvPr/>
        </p:nvSpPr>
        <p:spPr>
          <a:xfrm>
            <a:off x="108000" y="20628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7. Valu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he cosa valutiamo e con quali strument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72D0-D051-4581-999C-78A4A0EA9A3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250920" y="3510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Eventuale video di presentazione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durata massima: 2 minu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6"/>
          <p:cNvSpPr/>
          <p:nvPr/>
        </p:nvSpPr>
        <p:spPr>
          <a:xfrm>
            <a:off x="971640" y="15526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K O ALT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4:04:06Z</dcterms:created>
  <dc:creator>Tiziana_</dc:creator>
  <dc:description/>
  <dc:language>en-US</dc:language>
  <cp:lastModifiedBy>Administrator</cp:lastModifiedBy>
  <dcterms:modified xsi:type="dcterms:W3CDTF">2020-02-10T11:01:23Z</dcterms:modified>
  <cp:revision>31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0</vt:lpwstr>
  </property>
</Properties>
</file>